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565-D955-4AB0-B6DF-25204607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ADD-B9A4-4F48-A56F-EC2067E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594-CA88-4CF3-8785-7EF371D5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FA0-A853-4469-AE2B-8688F79E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8C6-F387-41D6-8E67-9F4DCD3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97A-7956-4D3A-8279-D2E2E06B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889-8C01-4F09-AEA2-A407A295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2F6-ED83-47AC-91BC-5ACF2C4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9E9-B8C9-4154-8550-80E8C214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946-1894-48B7-B9C1-6F2032F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38C-2C6D-48C6-A33F-F28FDE78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7E4-39F4-4331-9BFE-C8F36F5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FC0E-BE54-41C3-ADFB-E8CD942EC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-115920" y="2468520"/>
            <a:ext cx="9583920" cy="1865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3"/>
          <a:stretch/>
        </p:blipFill>
        <p:spPr>
          <a:xfrm>
            <a:off x="3097080" y="4095720"/>
            <a:ext cx="18892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66880" y="0"/>
            <a:ext cx="37339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32523"/>
                </a:solidFill>
                <a:uFillTx/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Up, down, 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Flashing, smiling, brilli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 really big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Soar on the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oosh! Your stomach dr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en you least expect 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 longer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w climbing up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t takes mor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are near the top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lmost once mor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s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nd it’s your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f you want to b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362320" y="13716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once was 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said that her life was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one sad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t wa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banished the snow with it’s s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304920" y="838080"/>
            <a:ext cx="396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ft sand sifts beneath my toes an tickle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, blue and 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nd f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tand upon a silk mat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ene is fit for a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poni island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and reas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cy soft web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ing across the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267080" y="21337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stay here fore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sink into the sand in a bli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my fizzing ima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, If I hug the scene will it cru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nature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Beauty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 even if you don’t even know what you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24280" y="838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has it been this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will it b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ave seen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wish to se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2"/>
          <a:stretch/>
        </p:blipFill>
        <p:spPr>
          <a:xfrm>
            <a:off x="-189000" y="-128520"/>
            <a:ext cx="93394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743200" y="15238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ght an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iling, loving, h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rious, warm ,cool,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spering, fondling, ch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, sle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05120" y="106668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ngs m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owl vic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hisper softly in my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heard of in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balle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19520" y="1371600"/>
            <a:ext cx="441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76092"/>
                </a:solidFill>
                <a:uFillTx/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Schools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oo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I can’t wait for the p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Thee excitement makes me fe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Like tread off the s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Don’t tell me to, “:Please come insid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Because, you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From the outside I can’t res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Uh – o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dus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And here comes the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15238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zy, 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ing, tickling, gigg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y mother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57400" y="1066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 at a 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eling you have when school is dismissed at 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nd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ld silk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ing it’s arms arou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lling my spirit with g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56:50Z</dcterms:created>
  <dc:creator>ITSUser</dc:creator>
  <dc:description/>
  <dc:language>en-US</dc:language>
  <cp:lastModifiedBy>Rod</cp:lastModifiedBy>
  <dcterms:modified xsi:type="dcterms:W3CDTF">2009-05-13T03:29:27Z</dcterms:modified>
  <cp:revision>20</cp:revision>
  <dc:subject/>
  <dc:title>Slide 1</dc:title>
</cp:coreProperties>
</file>